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media/image6.png" ContentType="image/png"/>
  <Override PartName="/ppt/media/image14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8C2B-3EA8-4B68-96AB-8F7933F2C9A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059C-7DA5-4CDD-9A32-8E0952DA655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8DEC-C63F-4C49-B821-79E7528381D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79D3-67F7-4322-9FDB-1EEC6F6C189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B487-B051-416D-B506-63DD7007164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786F-5434-4E98-A4A2-9437CCA65AD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2D6F-FE7A-4567-877D-F52ED21AD51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077B-14F0-4A75-823E-1AF25F60141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FABE-0035-4476-BFEB-F98BF98934E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A828-9E6B-4B5C-87E7-81AE63CB059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2F1F-B33C-43A6-BC02-D265E182ED38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EEEF-0C44-4901-92CB-47B6AC9FC6E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BC00-8DEE-4228-844F-724B1A3F8CEC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EF03-94F6-4FD1-A439-6E9B1F47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2830-D156-4709-86EC-0D95F376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8CB7-288C-4EEB-8537-4130BF38F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EC1A-D79E-4040-973D-509B626B7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225B-FD6D-4189-9ED8-880727063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32C5-01ED-4EB7-BC64-13D9EFC6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B909-C8FD-4A8B-AB20-5A823F38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5072-9FDD-465F-BB49-31FF645A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B352-787A-4021-BCF0-83A561CB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E5EB-F9DE-4702-9BAC-FE780FB5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42C9-827F-48F2-A751-EA2409A0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3F30-CC6A-4EC6-B838-FCE5223E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D3D1-C58E-405B-8EB7-64062282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1E56-CC2B-4C15-B011-08EABF72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3F2D-F53F-4397-9DD1-8A9FB46C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A647-E51A-4C3B-AB9F-C99B45B4D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60E9-5EE6-444B-881D-486940EBE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68DAA-0BB4-4BCD-9DCD-A69A0B094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9E393-AC41-4308-92E6-0EF41E46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67609-FCC8-46B1-B6D2-4279E801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BFA15-6EC4-4B06-9A13-A6C07CE8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664B8-5741-4F4C-A52B-6C44D7A5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1D88-F4F6-482C-B25E-1C6D1F47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6D8DC-38C5-4565-B32B-3C226299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A08E7-7B5A-4D9F-ACD7-D742A956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8B343-2D82-4B11-BD36-26237305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D4F4B-95C8-46E6-A594-F396091D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DEB31-B877-4D9C-8A8C-AA3A67F5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EC590-850D-4273-8F1F-CF80630BC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1F1B8-2983-422C-9DD9-5B976BA8F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EA538-891F-4BE1-9413-469C8491D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21FD1-0F54-4D89-98F0-6F98950E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AB4B9-86E4-473C-A9B5-B2EA822B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FA5A-A2FC-4EDC-9730-E4E898CA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46223-FAE9-4E3A-8BC2-F77E6DF3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394B5-3ED4-49CD-B4E5-CCD6AFED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F0E68-FB8D-405F-93AF-5072C3FC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EC0FA-9153-4E90-8F16-E8488512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D22FA-12D7-42FC-8FC7-6B6420AF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08BAB-3EAF-4B6E-9C4E-D1814671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722B7-CC1D-49CE-96C9-D9481EAB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68DB4-1D15-4C11-A845-10D1F5B55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99625-C797-4D71-9E38-0BCB8BEA6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2204-3B86-4114-B806-F0BA8F27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0C50-02BB-45F9-8AA2-9257900F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D054-7297-46CB-A80C-45F67CED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C078-81D4-4750-B7C1-F5637445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7506-3E95-4761-89A6-EA507049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B281-6022-43D7-B2B8-F557862739D5}" type="datetime">
              <a:rPr b="0" lang="en-CA" sz="1200" spc="-1" strike="noStrike">
                <a:solidFill>
                  <a:srgbClr val="045c75"/>
                </a:solidFill>
                <a:latin typeface="Constantia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2889-7C7F-415A-8D37-2B5C20E50ED2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F39C-D687-4C20-8DE3-CDBB184BAB40}" type="datetime">
              <a:rPr b="0" lang="en-CA" sz="1200" spc="-1" strike="noStrike">
                <a:solidFill>
                  <a:srgbClr val="d1eaee"/>
                </a:solidFill>
                <a:latin typeface="Constantia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1eaee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20DD-5435-4587-A565-8BFA3A84BA8B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BDB0-195C-4013-854B-5179BEBFD680}" type="datetime">
              <a:rPr b="0" lang="en-CA" sz="1200" spc="-1" strike="noStrike">
                <a:solidFill>
                  <a:srgbClr val="d1eaee"/>
                </a:solidFill>
                <a:latin typeface="Constantia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1eaee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8D36-3D02-47D5-879F-290A276CAA6F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4BF2-8522-4C2F-8C20-41DA5A2A24BF}" type="datetime">
              <a:rPr b="0" lang="en-CA" sz="1200" spc="-1" strike="noStrike">
                <a:solidFill>
                  <a:srgbClr val="045c75"/>
                </a:solidFill>
                <a:latin typeface="Constantia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0F60-C65F-4B32-AF0C-5324B8E6DDFD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6400" y="298440"/>
            <a:ext cx="7351920" cy="13222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755280" y="1197000"/>
            <a:ext cx="7201080" cy="489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Assigned work: pg. 433 #1-12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Equation of a line – slope and point or two point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BUT NOW we will learn to describe an Equation of a Line by using vectors………………….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1 Parametric &amp; Vector Equations of  Line in a Pla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24000" y="1557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2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c) Determine the y-intercept of the li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y int (x=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47" name="Object 2"/>
          <p:cNvGraphicFramePr/>
          <p:nvPr/>
        </p:nvGraphicFramePr>
        <p:xfrm>
          <a:off x="2793960" y="2859120"/>
          <a:ext cx="2268720" cy="337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960" y="2859120"/>
                    <a:ext cx="2268720" cy="33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1 Parametric &amp; Vector Equations of  Line in a Pla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24000" y="1557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Parametric equations of a line can be used to find a third form of an equation call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Symmetric Equation of a Line in a Plane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It eliminates the parameter from the parametric equa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51" name="Object 2"/>
          <p:cNvGraphicFramePr/>
          <p:nvPr/>
        </p:nvGraphicFramePr>
        <p:xfrm>
          <a:off x="2268360" y="4076640"/>
          <a:ext cx="3167280" cy="131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4076640"/>
                    <a:ext cx="3167280" cy="13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1 Parametric &amp; Vector Equations of  Line in a Pla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24000" y="1557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 3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Find the symmetric equation of the li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Therefore the symmetric equation i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55" name="Object 2"/>
          <p:cNvGraphicFramePr/>
          <p:nvPr/>
        </p:nvGraphicFramePr>
        <p:xfrm>
          <a:off x="2124000" y="3068640"/>
          <a:ext cx="3816360" cy="13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3068640"/>
                    <a:ext cx="381636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Object 3"/>
          <p:cNvGraphicFramePr/>
          <p:nvPr/>
        </p:nvGraphicFramePr>
        <p:xfrm>
          <a:off x="5796000" y="2349360"/>
          <a:ext cx="2376360" cy="5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6000" y="2349360"/>
                    <a:ext cx="237636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4"/>
          <p:cNvGraphicFramePr/>
          <p:nvPr/>
        </p:nvGraphicFramePr>
        <p:xfrm>
          <a:off x="5580000" y="4506840"/>
          <a:ext cx="2160720" cy="106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80000" y="4506840"/>
                    <a:ext cx="2160720" cy="10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1 Parametric &amp; Vector Equations of  Line in a Pla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ector Equation of a Line in a Plan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6" name="Object 17"/>
          <p:cNvGraphicFramePr/>
          <p:nvPr/>
        </p:nvGraphicFramePr>
        <p:xfrm>
          <a:off x="1619280" y="2781360"/>
          <a:ext cx="36003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781360"/>
                    <a:ext cx="36003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10"/>
          <p:cNvGraphicFramePr/>
          <p:nvPr/>
        </p:nvGraphicFramePr>
        <p:xfrm>
          <a:off x="1763640" y="4437000"/>
          <a:ext cx="3695760" cy="5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4437000"/>
                    <a:ext cx="369576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1 Parametric &amp; Vector Equations of  Line in a Pla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24000" y="1557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The vectors and variables from the previous slide are defined below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2556000" y="2492280"/>
          <a:ext cx="5182920" cy="38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492280"/>
                    <a:ext cx="5182920" cy="38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1 Parametric &amp; Vector Equations of  Line in a Pla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4000" y="1557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Note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A direction vector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can give the magnitude of the slope of a line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Any parallel vector to a line has a direction vector that is the same or scalar multiple of the direction vector in the given li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6" name="Object 3"/>
          <p:cNvGraphicFramePr/>
          <p:nvPr/>
        </p:nvGraphicFramePr>
        <p:xfrm>
          <a:off x="2771640" y="2421000"/>
          <a:ext cx="1224000" cy="4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2421000"/>
                    <a:ext cx="122400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Object 4"/>
          <p:cNvGraphicFramePr/>
          <p:nvPr/>
        </p:nvGraphicFramePr>
        <p:xfrm>
          <a:off x="2411280" y="2708280"/>
          <a:ext cx="1656000" cy="79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2708280"/>
                    <a:ext cx="165600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1 Parametric &amp; Vector Equations of  Line in a Pla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1557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1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Find the vector equation of the line that passes through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points A(3,4) and B(7,2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the slope of the line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22" name="Object 4"/>
          <p:cNvGraphicFramePr/>
          <p:nvPr/>
        </p:nvGraphicFramePr>
        <p:xfrm>
          <a:off x="1692360" y="2927520"/>
          <a:ext cx="4680000" cy="279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927520"/>
                    <a:ext cx="468000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24" name="Straight Arrow Connector 10"/>
          <p:cNvCxnSpPr/>
          <p:nvPr/>
        </p:nvCxnSpPr>
        <p:spPr>
          <a:xfrm flipH="1">
            <a:off x="2987280" y="3789360"/>
            <a:ext cx="505440" cy="2167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graphicFrame>
        <p:nvGraphicFramePr>
          <p:cNvPr id="225" name="Object 5"/>
          <p:cNvGraphicFramePr/>
          <p:nvPr/>
        </p:nvGraphicFramePr>
        <p:xfrm>
          <a:off x="5076720" y="5805360"/>
          <a:ext cx="100800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5805360"/>
                    <a:ext cx="10080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1 Parametric &amp; Vector Equations of  Line in a Pla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48392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c) Determine a different point on the li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(just choose any value for t …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When t = 1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Therefor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29" name="Object 2"/>
          <p:cNvGraphicFramePr/>
          <p:nvPr/>
        </p:nvGraphicFramePr>
        <p:xfrm>
          <a:off x="2411280" y="3716280"/>
          <a:ext cx="628812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3716280"/>
                    <a:ext cx="628812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1 Parametric &amp; Vector Equations of  Line in a Pla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24000" y="1557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This vector equation can be used to describe a line in terms of its components. An equation written in terms of its components is called the…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Parametric Equation of a Line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3" name="Object 3"/>
          <p:cNvGraphicFramePr/>
          <p:nvPr/>
        </p:nvGraphicFramePr>
        <p:xfrm>
          <a:off x="2195640" y="4221000"/>
          <a:ext cx="482436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4221000"/>
                    <a:ext cx="48243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1 Parametric &amp; Vector Equations of  Line in a Pla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4000" y="1557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2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A line passes through the point P(-1,1) and has a direction vecto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State the parametric equation of the li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7" name="Object 2"/>
          <p:cNvGraphicFramePr/>
          <p:nvPr/>
        </p:nvGraphicFramePr>
        <p:xfrm>
          <a:off x="2124000" y="4076640"/>
          <a:ext cx="412740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4076640"/>
                    <a:ext cx="41274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4"/>
          <p:cNvGraphicFramePr/>
          <p:nvPr/>
        </p:nvGraphicFramePr>
        <p:xfrm>
          <a:off x="1403280" y="2349360"/>
          <a:ext cx="1368360" cy="5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2349360"/>
                    <a:ext cx="136836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1 Parametric &amp; Vector Equations of  Line in a Pla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557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2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b) Does the point (-4,1) lie on the line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(*****if it does (-4,1) will produce the same parameter for both component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Check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Since parameter is NOT the same for both components, the point DOES NOT lie on the li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43" name="Object 3"/>
          <p:cNvGraphicFramePr/>
          <p:nvPr/>
        </p:nvGraphicFramePr>
        <p:xfrm>
          <a:off x="2095560" y="3789360"/>
          <a:ext cx="3663720" cy="15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560" y="3789360"/>
                    <a:ext cx="366372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7:07:38Z</dcterms:created>
  <dc:creator>sandy</dc:creator>
  <dc:description/>
  <dc:language>en-US</dc:language>
  <cp:lastModifiedBy>sandy</cp:lastModifiedBy>
  <dcterms:modified xsi:type="dcterms:W3CDTF">2010-12-14T02:55:38Z</dcterms:modified>
  <cp:revision>232</cp:revision>
  <dc:subject/>
  <dc:title>2.2 Derivatives of Polynomial Functions</dc:title>
</cp:coreProperties>
</file>